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548-9170-4B63-BE7E-7E8CA225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EA6D-5730-4C11-A78D-D94A14B7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550-EC92-4930-BF47-DD668C33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536-0EAF-40C7-AE3F-96394E27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8952-15E9-4B5C-BD03-87203C5F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8A56-807F-4381-B172-BE5542F0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280D-6C4E-4C7C-922D-4069B8CB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58C5-17B5-44F2-97D1-62E5C3BA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B89D-3AD5-4F5C-A1E4-A3351844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B94A-299F-4805-9B67-99B28556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E58B-706D-40A7-9CBB-26A3FED1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178-A9FC-4BB0-A2CE-93047045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D78B-B793-4FB6-9568-E2753271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152A-DFE4-4CB5-9C87-1AD6D300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F9AA-13CB-4696-9984-E0A5715E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22C6-113D-410C-874F-05DF5B4F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F957-6188-49F0-A590-A5E72182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043-4399-4841-A2D0-FAF1ACAA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7571-B68E-4307-ABCD-5C2C2692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103A-7B86-4773-8D6F-5803896D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78E-F5B5-4829-9BA6-AA3E6ABA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AE0-50CD-4BB1-86D9-54DDAB71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BD1-0DFF-4C64-BE76-1FDFC7F7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927F-9352-4241-883D-91C51314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7208-D236-465C-BCA7-B2CEE9345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9BDF-AB74-4435-B3FA-BA9DFBBDE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mping highways and byways, wandering everywhere bird dogging the sandlots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46280" y="1981080"/>
            <a:ext cx="585144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teral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dreaming about discovering a group of very talented (and bearded) ball players out in the country behind a barn.  They run away when he calls to them, never to be cau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 is feeling the pressure to discover talent in order to show his worth as a scout and to make his living.  This is what drives him.  The dream shows he (like Roy) is internalizing the pressure/confli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mmon human response for inner conflicts to reveal themselves in our subconscious and, therefore, in our drea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a long time trying to settle himself comfortably, he fell snoring asleep . . .”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2006640"/>
            <a:ext cx="7772400" cy="406224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r thought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ough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ember as you read this story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between the lines to bring your own unique insight into the characters and situ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characters develop, they reveal their human nature and contribute to story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beyond the words to bring your own world of experiences to the world of Roy Hobb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 you offer your inferences and applied thought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9400" y="1981080"/>
            <a:ext cx="380844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ze that it’s OK to take ris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ct of reaching out, or reaching in for insight is how we grow and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66960" y="2265480"/>
            <a:ext cx="3163680" cy="38275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urpose of this strate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self-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in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st as in this dream he could never shake off”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11280" y="1981080"/>
            <a:ext cx="612000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  Roy dreams about holding a gold baseball and not being sure whether to hold onto it or to let it dr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thinking:  Roy’s dream shows that he is deeply conflicted and unsettled about what he should do about his future in baseball.  The “gold baseball” symbolic of 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dream he could never shake off .  . 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thinking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eople wrestle with inner conflicts, it sometimes shows up in their drea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authors use dreams as a vehicle to foretell future ev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8-31T16:47:02Z</dcterms:modified>
  <cp:revision>20</cp:revision>
  <dc:subject/>
  <dc:title>The House on Mango Street</dc:title>
</cp:coreProperties>
</file>